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627-257C-45BA-B475-A0ECBD84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DC2-50BA-4D6A-B853-2622EDD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064-DF38-4D33-87ED-CE118F5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400-B0C6-4FB2-8D6E-C93D3FB6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9F8-BC4F-42BA-9B99-22DA2411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AFB-4958-414D-9179-D6AE55DD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9BA-C317-49AB-8F31-7B37A51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80A-F36D-4343-A440-2AFC5737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5DB-500A-413D-8C0E-2482AE2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58-A806-40C7-BF1E-85A861F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4F1-EA1E-4BCE-98DF-41D8E10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42F-BBF1-44CF-82E8-C1EF522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66A8-A829-4917-8356-4C6296D1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457200"/>
            <a:ext cx="3657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ur school</a:t>
            </a:r>
            <a:endParaRPr b="0" lang="en-US" sz="5400" spc="1" strike="noStrike">
              <a:ln w="32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</a:t>
            </a:r>
            <a:endParaRPr b="0" lang="en-US" sz="5400" spc="1" strike="noStrike">
              <a:ln w="32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5357880"/>
            <a:ext cx="47530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y conn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200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7080" y="457200"/>
            <a:ext cx="2895840" cy="9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 Robis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600"/>
            <a:ext cx="25527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ur tech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0240" y="1523880"/>
            <a:ext cx="172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08Z</dcterms:created>
  <dc:creator>Glenboi</dc:creator>
  <dc:description/>
  <dc:language>en-US</dc:language>
  <cp:lastModifiedBy>Glenboi</cp:lastModifiedBy>
  <dcterms:modified xsi:type="dcterms:W3CDTF">2009-09-30T09:04:44Z</dcterms:modified>
  <cp:revision>1</cp:revision>
  <dc:subject/>
  <dc:title>PowerPoint Presentation</dc:title>
</cp:coreProperties>
</file>